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F75-27C8-4882-9BAB-488C1E05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C68-778B-4E64-8CFA-6FA3631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A60-9D6A-4DA1-8BCB-4031204C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16C-6393-47C5-8494-24606DA7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255-6B32-473E-9C1A-7BDD8DA2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0BE-88D8-4376-B3A6-6D9E4F1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CD1-1F88-4C66-BBD4-529D46AE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8DD-22EE-4C60-8508-34992522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3B2-EB01-4E4A-9CB2-86FB3FD9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6AD-2E38-426B-908E-B7142A85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710-F32D-43D3-A3CA-87E23D4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546-2FE3-4FD5-9783-35E2298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3A67-CFDD-4ADE-9401-16787DDD6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21:13:20Z</dcterms:created>
  <dc:creator>ASD</dc:creator>
  <dc:description/>
  <dc:language>en-US</dc:language>
  <cp:lastModifiedBy>ASD</cp:lastModifiedBy>
  <dcterms:modified xsi:type="dcterms:W3CDTF">2010-06-22T21:13:36Z</dcterms:modified>
  <cp:revision>1</cp:revision>
  <dc:subject/>
  <dc:title>Slide 1</dc:title>
</cp:coreProperties>
</file>